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B59-561C-4E43-ACC7-2706D4F1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993-8EF6-4852-97BE-D890EC07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9DC-5D65-400D-95D2-43F47AB5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03F-D63E-4525-BD41-2A425477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572-52B4-47B4-B946-B7440736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FB9-FF55-49A3-AEF5-7C37A50A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C2B-ADE4-4E1E-BFD6-507702B7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B88-61E9-40CA-BB04-B2F45214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A52-E201-472F-AC9F-0DC881E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450-4453-459A-8A21-27DC24B6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57D-3595-42E4-A758-E371020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2BF-9B77-4262-B8B9-C85A1AE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43FC-C055-401A-B00D-9F65F7A0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191628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530208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50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3213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2276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3645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141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3440" y="1700280"/>
            <a:ext cx="331128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77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3213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2276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0364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3645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3141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1628640"/>
            <a:ext cx="331164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2130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2205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35002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278136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70200" y="2637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0560" y="292572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1917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0200" y="2205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00320" y="2205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7600" y="2565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87600" y="2205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292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98920" y="191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98920" y="2925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09840" y="2205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17840" y="184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6920" y="22050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0920" y="2925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69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24210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6200" y="1628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4920" y="1628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8200" y="1844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6920" y="184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09840" y="2997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5840" y="162864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6920" y="2494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0"/>
            <a:ext cx="5976720" cy="580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565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3840" y="1557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38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2133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88000" y="553716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2780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270972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1341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27640" y="2421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97400" y="1628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4680" y="1989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1989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4680" y="1628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03640" y="1628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2700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2565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59280" y="1270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12700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2709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12700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27097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1341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2133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1557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12700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3068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278136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2349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2781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7280" y="1844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1989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1270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38624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87640" y="4149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17760" y="41497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05040" y="414972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16360" y="38624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1484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3789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4149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3573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2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3789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3789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4328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3645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5020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79640" y="3141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42210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2997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380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148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4005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3440" y="393372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0212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21440" y="3573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2148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3068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32148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89440" y="32148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4000" y="2278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2160" y="32148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08720" y="335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73440" y="32860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40784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13080" y="35020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3080" y="32148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5640" y="335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162864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1917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4720" y="37893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3860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52720" y="32148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71640" y="1125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27280" y="4076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1052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8360" y="98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36450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92720" y="393372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4365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48360" y="1341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1916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51640" y="2349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981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98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95640" y="450864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981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0836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4365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4840" y="29257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508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5080" y="184464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523080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41760" y="29257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328608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29040" y="299736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5080" y="184464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23080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54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989440" y="1771560"/>
            <a:ext cx="331128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65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916360" y="1844640"/>
            <a:ext cx="331128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76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63528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1627200"/>
            <a:ext cx="331164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91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43280" y="2565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3440" y="1700280"/>
            <a:ext cx="3311280" cy="30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500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08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78136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3213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4720" y="1771560"/>
            <a:ext cx="331164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995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565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2852640"/>
            <a:ext cx="759960" cy="792000"/>
            <a:chOff x="4284720" y="2852640"/>
            <a:chExt cx="759960" cy="792000"/>
          </a:xfrm>
        </p:grpSpPr>
        <p:sp>
          <p:nvSpPr>
            <p:cNvPr id="127" name=""/>
            <p:cNvSpPr/>
            <p:nvPr/>
          </p:nvSpPr>
          <p:spPr>
            <a:xfrm>
              <a:off x="4325760" y="285264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13040" y="321300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84720" y="321300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13040" y="2852640"/>
              <a:ext cx="431640" cy="43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08360" y="32130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256536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357336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285264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28526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3573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3213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5733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22766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227664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628640"/>
            <a:ext cx="331128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5157720"/>
            <a:ext cx="3456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trons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2:19:25Z</dcterms:created>
  <dc:creator>Ian Hemming</dc:creator>
  <dc:description/>
  <dc:language>en-US</dc:language>
  <cp:lastModifiedBy>Ian Hemming</cp:lastModifiedBy>
  <dcterms:modified xsi:type="dcterms:W3CDTF">2007-01-24T22:34:10Z</dcterms:modified>
  <cp:revision>2</cp:revision>
  <dc:subject/>
  <dc:title>Slide 1</dc:title>
</cp:coreProperties>
</file>